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dt" idx="19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2d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4d2d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0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 type="sldNum" idx="21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36FE-89F8-4677-B16D-DC1222A70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05F8-0AB8-4FC5-AD12-1C8A67023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9DB4-087A-4BF2-88EB-1D926A8EB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78E1-AECB-4FE2-9480-23151FE44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D855-D400-4E75-AE1E-061303C1E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E328-AA25-4B34-91C0-61C07F7A6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0E5E-6F57-4EE1-9A17-EBC480779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17EB-4B63-46CB-A639-E2A7A80C8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2145-776E-4CC8-BD45-33DD5963B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F99A-ACAB-499F-ADA5-545BE99FF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7ABA-1C82-4A75-95E2-1D307E635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1656-B0BB-45B4-8551-8F492ADD3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4810-9B60-4014-8BC2-B7589AADC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C1C4-1200-488E-A129-0950A5840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564C-1DE6-493C-B3F4-79345D4A5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B990-B8B4-4DC8-929A-6AE282676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1E5A-63CE-4728-AF29-27A101B15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A08D-B407-4D5A-A9B8-DA74E7881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F647-CD09-43DF-939F-88D705475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E46B-9044-492C-8D36-1FAE05F45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D7E3-34FF-472A-971F-46D8F7654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67F2-C305-47F3-B296-0EC318F9C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84CB-2353-430B-B1EB-6CA4781AF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C1C4-E7DE-4EF1-90B4-1415D3262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4CA7-56D2-4079-B9F4-D4C94651E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DC38-0D5E-4810-8E1C-2F9EED525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FD01-6CB6-4E3F-A562-178C25530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CABD-5817-4B44-A7D1-414511E60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9252-443B-42BB-8EE4-2A0299FF1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2A2C-CA1B-4201-836D-F48928C0E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CFE9-03B3-46F1-BAC2-080BD5991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20A4-D88B-4EE6-95E9-29F5806A3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BD79-8175-4AE4-A83F-08FAFCE17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3C81-CF8D-454D-9E77-6349348D4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D300-96C4-40D1-A70B-D5E2965D3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9624-7C71-4323-A7A5-974A4765C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16ED-9C50-4F9C-AC08-7EDC2D397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6AC1-2377-4D4A-A4E2-E4B0A8C63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C833-3287-4698-9E3B-B35BCDA80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D3F9-BC55-4AF2-8525-49BA1E0BE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67B7-76D8-4BC6-B686-8BC4FD07E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E78A-9EE3-4763-92C9-52B883CF7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2172-57F1-463A-9090-38EFB2A18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FD66-EFB9-459B-A2D9-9D62966EF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40FD-9F91-4ED4-88C8-46913E5D2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783E-BBA9-4546-AAC2-A36F48144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3754-2127-4540-99EE-1773519F6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8CF3-0B39-46EB-A97E-5FA0950F2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8616-8B79-4595-B0C2-43A45B6FD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7957-8DBE-46C1-850A-E5A003422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9BE3-B325-4B2C-93CC-DCEC98565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9165-066D-4AFD-9099-5B8EF4725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CA2A-3C4B-4BCB-946A-D91601068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1284-5D7A-4D5A-B18F-09FD806BF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3C87-573B-4CCD-B8BB-E74AD761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B3F4-6B6D-4B7B-B4F5-A4C8E2C3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20FC-5005-4649-A7B4-0E22E55F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5F49-3C69-467B-A4C1-4382AD80B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84B1-AFA5-4609-A027-76EF20F4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FDCB-818B-4065-B2AE-FF2445BE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4C7B-FF95-4EAF-8BED-50FA1B31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A712-E63D-425B-9335-28DF14C0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C329-7FD6-492C-A2E8-4AE608A2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8EDA-7600-4676-A8B8-B0CDA67D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237B-1B6F-47C3-8E53-CA235B5F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2D46-FA3B-44B9-8B03-98B6BA95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F862-5BEF-42E4-8A9E-1FF0DBF0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3172-9187-4250-A71C-1CA56DDC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794D-DEF1-4220-AED1-8B97877CD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C275-4A82-49D8-893D-350DAE39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843C4-8B24-4C80-9044-008C1DD5B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7DD15-B68F-4A1A-B7D5-90E098B8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1E6D0-0CC4-450F-9972-1A7FEE60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78718-3ED6-4022-B418-1FF2BB1E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B3EB3-508C-44BF-9A72-2B497BAD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BDD4-4ECA-4D8E-90CB-4C5BBC11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3AABB-B400-47E0-86A8-D3020BBC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136DF-A5A0-4005-8DDE-9F432F92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CAC25-6A30-4B9B-BDD6-8A731646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AF447-9F32-4FA5-B797-0BEC7706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273B7-FC16-47C6-B1AB-8C796D42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FF4DD-AF03-4343-B9F9-C3019659F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864B1-186F-4484-9F1E-982D170C1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7310C-6B07-4F8B-B740-1CE140510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59B5E-B196-4C5B-A77B-6045C86C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1A95E-1F4C-4464-B2EE-247417A4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5F64-9664-49C1-84E6-741DB70A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8FFB8-00BD-4BF3-B12B-F6A6F5EE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81B2F-6B3C-474C-BE10-6C0833C2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543E4-FADF-4DAE-AF42-C2739CF2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188F2-B96B-48C6-88E8-65538B3D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991C2-097B-4201-91C2-7371381E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74BD1-8E29-4D21-BF47-5005A2BF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462F1-6825-45C6-9C8C-8B96B426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41242-ED96-424C-80E2-61CC5EC8F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0BC6A-B166-4741-BA2E-0E6D9C344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8F599-137B-4428-B926-C981C0C29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2227-7A94-4B7E-91FE-5DAEA7EF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4D187-6E7A-490C-821B-B0032FBA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A32D1-75CF-4EE8-8DEB-C1EB1B4E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62BF8-A8E9-4BBD-863B-C333DE50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7641A-DC85-4D4D-AC33-7DFA52D1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AE106-AA90-4064-A417-8ECB0B6C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96D8C-E281-4E3D-AD87-12FC45AF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1A9E7-1C73-4B77-A965-FA9047DE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C0377-AD8D-41A4-ABEC-24C46017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9CBF6-899B-4A9C-B0C7-A1453A26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76320-5473-4F6E-B9CA-255EF5D2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11E0-F6D0-416D-BE0C-EBABD119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8A9BF-7BF6-4182-AE4E-6CCEC2600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8AC96-C57D-4AF0-BE62-4C8E959D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563BB-71F0-4637-9DD0-0C1C6BA8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E05A3-E20F-456D-B858-5001E7E9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437BB-1FB7-44BB-8F48-33531F1C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FD4A1-D942-4015-B458-9C9406F5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14D28-A070-4EDB-82ED-150EED02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06781-0DAD-4A7B-8C5C-BFF7DDC2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13FE5-E69B-463B-8120-EC38A683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EAC08-9624-4DD7-8A57-FA71B2C1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58C4-274F-4E87-9FA5-FA32A286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E6246-ABBE-4D0F-A1F6-ED5BDDC9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6A4A2-BD76-4394-A739-57DC90DC4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27366-1073-4D0C-A404-53EE9B30D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ADB0-D2B1-417E-BB21-E2CF6387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17D3-4E4C-4AC7-840B-B34C99FF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9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a00">
                  <a:alpha val="45098"/>
                </a:srgbClr>
              </a:gs>
              <a:gs pos="100000">
                <a:srgbClr val="7a759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4607a">
                  <a:alpha val="45098"/>
                </a:srgbClr>
              </a:gs>
              <a:gs pos="100000">
                <a:srgbClr val="d6b2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b3b3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383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E529-27DC-496C-B020-F5879DAB3B10}" type="slidenum">
              <a:rPr b="0" lang="en-US" sz="1200" spc="-1" strike="noStrike">
                <a:solidFill>
                  <a:srgbClr val="38383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70B9-1C83-47D1-9CCF-B856F0B056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9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a00">
                  <a:alpha val="45098"/>
                </a:srgbClr>
              </a:gs>
              <a:gs pos="100000">
                <a:srgbClr val="7a759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4607a">
                  <a:alpha val="45098"/>
                </a:srgbClr>
              </a:gs>
              <a:gs pos="100000">
                <a:srgbClr val="d6b2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2d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2d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9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a00">
                  <a:alpha val="45098"/>
                </a:srgbClr>
              </a:gs>
              <a:gs pos="100000">
                <a:srgbClr val="7a759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4607a">
                  <a:alpha val="45098"/>
                </a:srgbClr>
              </a:gs>
              <a:gs pos="100000">
                <a:srgbClr val="d6b2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8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50" name="Picture 13" descr="hh_logo_color.gif"/>
          <p:cNvPicPr/>
          <p:nvPr/>
        </p:nvPicPr>
        <p:blipFill>
          <a:blip r:embed="rId4"/>
          <a:stretch/>
        </p:blipFill>
        <p:spPr>
          <a:xfrm>
            <a:off x="228600" y="152280"/>
            <a:ext cx="1474920" cy="10162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b3b3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383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B073-383C-49D2-A780-F046D8DBE957}" type="slidenum">
              <a:rPr b="0" lang="en-US" sz="1200" spc="-1" strike="noStrike">
                <a:solidFill>
                  <a:srgbClr val="38383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9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a00">
                  <a:alpha val="45098"/>
                </a:srgbClr>
              </a:gs>
              <a:gs pos="100000">
                <a:srgbClr val="7a759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4607a">
                  <a:alpha val="45098"/>
                </a:srgbClr>
              </a:gs>
              <a:gs pos="100000">
                <a:srgbClr val="d6b2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6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99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2d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2d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c8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149F-B0C4-4271-9E96-9A6B21B8240D}" type="slidenum">
              <a:rPr b="0" lang="en-US" sz="1200" spc="-1" strike="noStrike">
                <a:solidFill>
                  <a:srgbClr val="cac8c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9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a00">
                  <a:alpha val="45098"/>
                </a:srgbClr>
              </a:gs>
              <a:gs pos="100000">
                <a:srgbClr val="7a759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4607a">
                  <a:alpha val="45098"/>
                </a:srgbClr>
              </a:gs>
              <a:gs pos="100000">
                <a:srgbClr val="d6b2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6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49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a00">
                  <a:alpha val="45098"/>
                </a:srgbClr>
              </a:gs>
              <a:gs pos="100000">
                <a:srgbClr val="7a759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4607a">
                  <a:alpha val="45098"/>
                </a:srgbClr>
              </a:gs>
              <a:gs pos="100000">
                <a:srgbClr val="d6b2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b3b3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383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CB20-3252-4B08-B4A8-8C5F9F8BE8CB}" type="slidenum">
              <a:rPr b="0" lang="en-US" sz="1200" spc="-1" strike="noStrike">
                <a:solidFill>
                  <a:srgbClr val="38383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-6480" y="603360"/>
            <a:ext cx="9247320" cy="29574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43080" y="57150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642d"/>
                </a:solidFill>
                <a:latin typeface="Calibri"/>
                <a:ea typeface="Verdana"/>
              </a:rPr>
              <a:t>HUD Office of Healthy Homes and Lead Hazard Contro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642d"/>
                </a:solidFill>
                <a:latin typeface="Calibri"/>
                <a:ea typeface="Verdana"/>
              </a:rPr>
              <a:t>September 4, 2012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5" name="Picture 3" descr="hh_logo_color.gif"/>
          <p:cNvPicPr/>
          <p:nvPr/>
        </p:nvPicPr>
        <p:blipFill>
          <a:blip r:embed="rId2"/>
          <a:stretch/>
        </p:blipFill>
        <p:spPr>
          <a:xfrm>
            <a:off x="2014560" y="3581280"/>
            <a:ext cx="2405160" cy="1676520"/>
          </a:xfrm>
          <a:prstGeom prst="rect">
            <a:avLst/>
          </a:prstGeom>
          <a:ln w="0">
            <a:noFill/>
          </a:ln>
        </p:spPr>
      </p:pic>
      <p:sp>
        <p:nvSpPr>
          <p:cNvPr id="30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6" descr="01 HUD Guidelines Section Edition outside cover.2012-08-29.jpg"/>
          <p:cNvPicPr/>
          <p:nvPr/>
        </p:nvPicPr>
        <p:blipFill>
          <a:blip r:embed="rId3"/>
          <a:stretch/>
        </p:blipFill>
        <p:spPr>
          <a:xfrm>
            <a:off x="5275440" y="3581280"/>
            <a:ext cx="13539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4: Lead-Based Paint and Housing Renovation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Updates descriptions of OSHA, EPA and HUD rules and rol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Notes that LBPH and LBP definitions are under collaborative review by EPA and HU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Invokes PRE Rul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Updates prohibited methods under EPA rules and LSH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9DBF-11CF-4746-BB0A-07A894556CE5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5: Risk Assessment and Reevaluation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Invokes EPA lead training and certification (402) rule, State / Tribal certification program authorizations, and LSH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Distinguishes risk assessment (RA) from environmental investiga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Discusses composite sampling, but gives pragmatic reasons for not encouraging i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Discusses random sampling of types of common area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D40E-8F0E-413D-9BEA-60343B303933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5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ASTM voluntary consensus standards for dust-lead and soil-lead sampling and analysi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Revised model questionnaires and field sampling form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Mobile laboratories re NLLAP in EPA and State/Tribal certification program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Model RA report executive summary format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RA report example (in Appendix 8.1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C8EA-5BB0-464E-822E-ABBDC9287067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6: Ongoing Lead-Safe Maintenance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Discusses relationship among ongoing maintenance, interim controls, and renova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Invokes PRE, RRP, LSH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Updated form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170D-A706-427F-9DF9-18530AB77444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7: Lead-Based Paint Inspection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Invokes EPA certification program, and State / Tribal certification program authorization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Notes that there are other analyses besides</a:t>
            </a:r>
            <a:br>
              <a:rPr sz="3200"/>
            </a:b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X-ray fluorescence (XRF) and the common lab methods (AAS, ICP-AES, ASV) that may be used by a laboratory with NLLAP recogni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Emphasizes that results and LBP inspection / RA reports using an XRF without a current Performance Characteristic Sheet are invali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2FE0-D103-4FD0-AB01-7F249A36B43F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7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Invokes ASTM voluntary consensus standards for sampling and analysi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Updates recommended report summary paragraphs on disclosing where LBP was, and was not, identifie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As noted previously, LBP definition under collaborative review by EPA and HU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A873-7090-43C9-968B-0A1F028C6524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7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Recommends that owners of LBP-free leasing properties retain reports for the life of the building, to prove easily that lease transactions are exempt from the Lead Disclosure Rul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Recommends that other owners retain the reports as wel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Discusses mobile laboratories re NLLAP in EPA and State/Tribal certification program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FDD1-5023-4E33-AAFB-92338C8CC57D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7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Discusses testing of non-paint surfaces, e.g., unpainted ceramic tile and porcelain bathtubs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Surfaces are not LBP, and not covered by the Lead Disclosure Rule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Sometimes tested before renovation if they will be broken or crushed, re worker protection and clearance issu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93D9-EA4A-4E21-98FE-25B354D8532D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8: Resident Protection and Worksite Preparation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Invokes PRE and RRP Rul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Expands discussion of OSHA rul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Step-by-step worksite preparation descrip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Strongly discourages high-dust job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DACF-F740-43E7-8F49-17001387E4D5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9: Worker Protection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Considerably shortened, since OSHA’s guidance for its Lead in Construction standard has been issued (links are provided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Updated protective clothing and equipment (e.g., respiratory protection standard) info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Discusses OSHA hazcom rule revision (3/26/2012) with global harmonization </a:t>
            </a:r>
            <a:br>
              <a:rPr sz="3200"/>
            </a:b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(e.g., revised lead warning sign and lead-contaminated clothing container label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6635-93DA-4B22-A098-6D4F971F0413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Developmental participants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3059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First draft by National Center for Healthy Housing (NCHH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ICF International provided editorial suppor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Atrium Environmental Health and Safety Services performing formatting and layout for Web post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HUD staff completed the revision, with greatly appreciated external and internal review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09FB-9721-4AA7-850F-30350F146BA0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10: Housing Waste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Reflects EPA waste rules and guidance, esp.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Policy clarification (2000) exempting most residential LBP waste generated by contractors as well as residents, but not concentrated lead waste (e.g., paint strippings, lead paint chips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Resource Conservation and Recovery Act (RCRA) rule update (2003) codified this polic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7656-21F3-46FE-993C-7962E1F341F4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11: Interim Controls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Reflects PRE, RRP and LSH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Provides updated step-by-step procedural guidanc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Reiterates HUD policy that,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Clearance is highly recommended … </a:t>
            </a:r>
            <a:br>
              <a:rPr sz="3200"/>
            </a:b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even when not required by regulation”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of HUD or EPA, while noting the role and benefits of those regulation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DDAC-19A2-4AC5-8B9E-1A996471E087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12: Abatement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Reflects EPA 402 abatement rule and HUD LSH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Notes, re metal components, that factory applied primers in sound condition need not be abated or removed in an abatement projec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7E52-E2D4-41AD-9E92-FEEBA8F2E632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13: Encapsulation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Notes that encapsulation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with a less-than-20 yr expected life, or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without a 20 yr-or-longer encapsulation maintenance plan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is RRP / interim control, not abatemen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Notes that EPA volatile organic compounds emissions rule for architectural coatings may cover encapsulation; the determination is product-, method- and site-specific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09CE-F77C-4786-8F23-799BCF34BBA1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14: Cleaning Following Hazard Controls or Other Paint-Disturbing Work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Updated to reflect methodology research result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Discusses types of vacuums, use of TSP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Discusses use of on-site preliminary dust testing (e.g., XRF, ASV) before clearance exam when achieving clearance known to be difficult (e.g., high dust-lead and paint-lead levels before work, surfaces not smooth &amp; cleanable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3B85-7D97-4AF4-BF22-A9B247FFEBD8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15: Clearance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Reflects EPA lead abatement regulations and HUD LSH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For certified dust sampling technicians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EPA RRP Rule allowing them to conduct optional clearance, and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HUD LSHR allowing them to conduct clearance if exam approved and report signed by certified RA or LBPI, but not to randomly select testing units / location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3C39-561F-41CF-A936-385BD6010676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15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Use of voluntary consensus standard (ASTM) method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Composite sampling of dust not encouraged; procedures described for it if conducte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Discusses use of on-site dust testing (e.g., XRF, ASV) for clearance exam by NLLAP-recognized mobile laborator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A6E8-8C58-440F-9A3A-06C43E394029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15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Table of recommended minimum number and locations of dust samples for four clearance categories (interior with containment, without containment; worksite-only; exterior work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Updated discussion on option to determine if specified hazard control work was don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Discussion and checklists for clearance report prepara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D0CC-2DBD-4D82-AB22-3D69BB60B4BC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16: Investigation and Treatment of Dwellings that House Children with Elevated Blood Lead Levels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2133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New summary of recommendations as a function of BL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New list of actions recommende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New description of assessment/ remedia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CDC response to ACCLPP repor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Pending decisions on HUD rulemaking, retains EIBLL thresholds and approach, so HUD and state/local agencies have guidanc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6EA9-F39D-491F-8726-AE1912D05BCF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17: (Reserved for future use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980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The content of the first edition’s chapter 17, </a:t>
            </a:r>
            <a:r>
              <a:rPr b="0" i="1" lang="en-US" sz="3200" spc="-1" strike="noStrike">
                <a:solidFill>
                  <a:srgbClr val="3b3b3b"/>
                </a:solidFill>
                <a:latin typeface="Calibri"/>
              </a:rPr>
              <a:t>Routine Building Maintenance and Lead-Based Paint,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is incorporated into revised chapters:</a:t>
            </a:r>
            <a:br>
              <a:rPr sz="3200"/>
            </a:b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6 (ongoing lead-safe maintenance), and </a:t>
            </a:r>
            <a:br>
              <a:rPr sz="3200"/>
            </a:b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11 (interim controls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Chapter 17 is now reserve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C3C1-B77A-4950-85AA-08306855C395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360" y="9144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Reviewers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066680" y="1371600"/>
            <a:ext cx="7391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External reviewer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vin Ashley, CDC/NIOS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na Thomas, USD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ry Jean Brown, CDC/NCE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e Wasserman, LEWCor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tt Clark, U. of Cincinnat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nneth T. White, Consultive Servic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ry Dewalt, QuanTec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onathan Wilson, NCHH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l Duff, Liability Consultants, LLC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rc Edmonds, EP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Internal HUD review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uck Fisher, NP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eter Ashle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omas Galassi, OSH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Nancy Boon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ris Hatelid, CPS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arren Friedma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rk Henshall, EP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Karen Grieg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vid E. Jacobs, NCHH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ruce Hab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rry McGowan, OSH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Lee Ann Richards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becca Morley, NCH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Eugene Pinz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n Morony, EP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achel Rile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ackie Mosby, EP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John Shumwa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aron Sussell, CD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bert Weisberg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E11F-1F8E-4078-821E-F4F8849A59BC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18: Lead-Based Paint and Historic Preservation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934640"/>
            <a:ext cx="8534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Updated re National Parks Service guidanc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Invokes RRP, LSHR, OSH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Cautions on chemical stripping re glue melt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To protect housing’s historicity, recommends no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Caustic strippers that can raise wood grain (unless supervised by a trained specialist)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Power sanding that can abrade wood surface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Hot-tank dipping that may loosen glued joint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3DC0-A52F-4DB1-BD35-8634D6AD0F59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Glossary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Updated with new term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Consistent with regulatory definitions; many are simplified to enhance field usabilit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Clarified definitions where users had expressed concern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F8D5-5356-47E3-B953-980A17C04BC6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ces - Overall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Many appendices are now links to websites developed since the first edition, or to a chapter in this second edi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References and Web links in many appendices are update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Appendix 6, on HUD, EPA, OSHA, CPSC and NPS lead paint regulations, reflects current regulations, guidance and training material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F028-3A27-4249-934F-04BC89C38E96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ces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1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Units of Measure Used in the Lead-Based Paint Fiel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Terms, definitions and conversions of various units (mass, concentrations, thresholds, etc.)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2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CDC’s Childhood Lead Poisoning Prevention Program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Links to CDC-assisted State and local CLPPP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6CE3-706D-440D-8F23-3A4C052F1656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ces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935000"/>
            <a:ext cx="8229600" cy="47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3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EPA Regional Offic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Links to EPA Regional Office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4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OSHA Regional Offices and State Program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Links to OSHA regional offices and a list of State OSH program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5 </a:t>
            </a:r>
            <a:r>
              <a:rPr b="0" lang="en-US" sz="3200" spc="-1" strike="noStrike">
                <a:solidFill>
                  <a:srgbClr val="3b3b3b"/>
                </a:solidFill>
                <a:latin typeface="Constantia"/>
              </a:rPr>
              <a:t>– </a:t>
            </a: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EPA Training, Certification and Accreditation Program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Link to list of program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DF5A-9711-493D-9C67-7D3096E1BB4B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ces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5.1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Structured On-the-Job Training (OJT) vs. Unstructured OJ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Discussion, with references, of SOJT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100000"/>
              </a:lnSpc>
              <a:spcBef>
                <a:spcPts val="675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b3b3b"/>
                </a:solidFill>
                <a:latin typeface="Calibri"/>
              </a:rPr>
              <a:t>Jobs analyzed and broken down into component tasks; instructors given lesson plans and materials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100000"/>
              </a:lnSpc>
              <a:spcBef>
                <a:spcPts val="675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b3b3b"/>
                </a:solidFill>
                <a:latin typeface="Calibri"/>
              </a:rPr>
              <a:t>Consistency and cost-effectiveness discussed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Discussion of criteria for completing OJT for LBP activities, e.g., in RRP Rule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Basis for HUD’s recommendation of SOJT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94A7-C370-4522-85E1-9FB994E70E6A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ces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6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HUD, EPA, OSHA, CPSC, and NPS Lead Paint Rul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Overviews, and guidance materials on, these rules: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675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b3b3b"/>
                </a:solidFill>
                <a:latin typeface="Calibri"/>
              </a:rPr>
              <a:t>EPA-HUD Lead Disclosure Rule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675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b3b3b"/>
                </a:solidFill>
                <a:latin typeface="Calibri"/>
              </a:rPr>
              <a:t>HUD Lead Safe Housing Rule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675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b3b3b"/>
                </a:solidFill>
                <a:latin typeface="Calibri"/>
              </a:rPr>
              <a:t>EPA Training and Certification Rule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675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b3b3b"/>
                </a:solidFill>
                <a:latin typeface="Calibri"/>
              </a:rPr>
              <a:t>EPA Renovation, Repair and Painting Rule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8D37-1D71-4A14-947C-46ADC19EC5F8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ces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6 (cont.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lnSpc>
                <a:spcPct val="100000"/>
              </a:lnSpc>
              <a:spcBef>
                <a:spcPts val="675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b3b3b"/>
                </a:solidFill>
                <a:latin typeface="Calibri"/>
              </a:rPr>
              <a:t>Differences and interactions between HUD’s LSHR and EPA’s RRP Rule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lnSpc>
                <a:spcPct val="100000"/>
              </a:lnSpc>
              <a:spcBef>
                <a:spcPts val="675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b3b3b"/>
                </a:solidFill>
                <a:latin typeface="Calibri"/>
              </a:rPr>
              <a:t>EPA Pre-Renovation Education rule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lnSpc>
                <a:spcPct val="100000"/>
              </a:lnSpc>
              <a:spcBef>
                <a:spcPts val="675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b3b3b"/>
                </a:solidFill>
                <a:latin typeface="Calibri"/>
              </a:rPr>
              <a:t>OSHA Lead Regulations (general industry, and construction)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lnSpc>
                <a:spcPct val="100000"/>
              </a:lnSpc>
              <a:spcBef>
                <a:spcPts val="675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b3b3b"/>
                </a:solidFill>
                <a:latin typeface="Calibri"/>
              </a:rPr>
              <a:t>CPSC bans of lead-containing paint, and lead in consumer products used by children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lnSpc>
                <a:spcPct val="100000"/>
              </a:lnSpc>
              <a:spcBef>
                <a:spcPts val="675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b3b3b"/>
                </a:solidFill>
                <a:latin typeface="Calibri"/>
              </a:rPr>
              <a:t>NPS rules and guidance on protection of historic properties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62EB-E536-4154-93B1-6EA03C9FEF31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ces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7.1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(Reserved for future use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Had been a list of elements of RFPs for risk-assessments and inspections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7.2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Types of Lead-Based Paint Enclosure System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Information that can be used for purchasing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Guidance on language that may be helpful in drafting specification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EE95-1D20-4B05-A17A-070A90745E23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ces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7.3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Generic Lead Based Paint Specification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DoD Unified Facilities Guide Specification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Lead based paint hazard abatemen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Safety and occupational health requireme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Removal/control and disposal of paint with lea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Lead in construc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NIBS LBP guide specs and O&amp;M manual no longer in print, so deleted from App. 7.3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0D04-F928-482C-BEDD-6013CE4F5A1C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2"/>
          <p:cNvSpPr/>
          <p:nvPr/>
        </p:nvSpPr>
        <p:spPr>
          <a:xfrm>
            <a:off x="304920" y="23623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hole book in one figu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3" descr="Figure 3-5 3Apr2007"/>
          <p:cNvPicPr/>
          <p:nvPr/>
        </p:nvPicPr>
        <p:blipFill>
          <a:blip r:embed="rId1"/>
          <a:stretch/>
        </p:blipFill>
        <p:spPr>
          <a:xfrm>
            <a:off x="1905120" y="0"/>
            <a:ext cx="525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ces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7.4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Guidance on Specifications for Interim Control of Soil Lead Hazards Link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Guidance on language that may be helpful in drafting specification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Methods, products, materials, reference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FA86-FEB1-4949-AA92-E9F07BB6D5B5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ces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8.1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Example of a Pre-Rehabilitation Risk Assessment and Limited Paint Testing Report for a Single-Family Dwelling Operated By a Small-Scale Owne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Adapted from “Making it Work: Implementing the Lead Safe Housing Rule in CPD-funded Programs”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A detailed report, in order to provide sample content and styles for all of the report segme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11A1-F0E8-4F61-A002-03B458FEC855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ces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8.2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Example of a Risk Assessment Report for Large Multifamily Housing Development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Now a referral to Chapter 5, Section VI.E, for a recommended format for a report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CDAA-EC17-4B3F-89B1-A9434AA9C6D1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ces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9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Lead-Based Paint Liability Insuranc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Guidance to owners on liability insurance re: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675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b3b3b"/>
                </a:solidFill>
                <a:latin typeface="Calibri"/>
              </a:rPr>
              <a:t>Professional liability coverage for LBP evaluation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675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b3b3b"/>
                </a:solidFill>
                <a:latin typeface="Calibri"/>
              </a:rPr>
              <a:t>Contractor’s pollution liability coverage for LHC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675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b3b3b"/>
                </a:solidFill>
                <a:latin typeface="Calibri"/>
              </a:rPr>
              <a:t>Relation of lead coverage to existing coverage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675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b3b3b"/>
                </a:solidFill>
                <a:latin typeface="Calibri"/>
              </a:rPr>
              <a:t>Coverages depending on who does what (owner’s employees, contractors, consultants, etc.)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831F-A47C-44D3-8B48-5182C13C0B6B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ces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9 (cont.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795240" indent="-214200">
              <a:lnSpc>
                <a:spcPct val="100000"/>
              </a:lnSpc>
              <a:spcBef>
                <a:spcPts val="675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b3b3b"/>
                </a:solidFill>
                <a:latin typeface="Calibri"/>
              </a:rPr>
              <a:t>Claims-made and occurrence coverages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795240" indent="-214200">
              <a:lnSpc>
                <a:spcPct val="100000"/>
              </a:lnSpc>
              <a:spcBef>
                <a:spcPts val="675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b3b3b"/>
                </a:solidFill>
                <a:latin typeface="Calibri"/>
              </a:rPr>
              <a:t>Policy limits and aggregates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795240" indent="-214200">
              <a:lnSpc>
                <a:spcPct val="100000"/>
              </a:lnSpc>
              <a:spcBef>
                <a:spcPts val="675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b3b3b"/>
                </a:solidFill>
                <a:latin typeface="Calibri"/>
              </a:rPr>
              <a:t>Policy limits and deductibles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795240" indent="-214200">
              <a:lnSpc>
                <a:spcPct val="100000"/>
              </a:lnSpc>
              <a:spcBef>
                <a:spcPts val="675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b3b3b"/>
                </a:solidFill>
                <a:latin typeface="Calibri"/>
              </a:rPr>
              <a:t>Recommended minimum characteristics for insuring entities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10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(Reserved for future use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56200" indent="-21384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Was Q&amp;As on sampling LBP HW; deleted because now under EPA household HW exemptio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56200" indent="-21384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Refers to Chapter 10 for guidanc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CE28-4A01-4D26-B296-815E0C9DCF34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ces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10.1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State and Territorial Hazardous Waste Management Agenci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Link to EPA list of State and territorial waste management agencie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11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One-Hour Waiting Period Rationale for Clearance Sampl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Points to published research cited in Chapter 15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C5DD-3557-4DF2-A4AA-A480BB556E33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ces (cont.)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12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Statistical Rationale for Sample Sizes and Percentages Used in Guidance  for Inspecting in Multi-Family Hous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Methodology behind Table 7.3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13.1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Wipe Sampling of Settled Dust for Lead Determina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An alternative to the ASTM E 1728 lead dust sample collection protoco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DCF2-1773-47A2-95F0-4D3EDD77E979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ces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13.2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Paint Chip Sampl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An alternative to the ASTM E1729 paint chip sample collection protoco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13.3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Collecting Samples for Lead Contamina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An alternative to the ASTM E1727 soil sample collection protoco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94E2-FE59-4D5B-991F-B0DDBFCB3797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ces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13.4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(Reserved for future use)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Was a procedure for sampling airborne particulate for lead; deleted because it is outside the scope of these </a:t>
            </a:r>
            <a:r>
              <a:rPr b="0" i="1" lang="en-US" sz="3000" spc="-1" strike="noStrike">
                <a:solidFill>
                  <a:srgbClr val="3b3b3b"/>
                </a:solidFill>
                <a:latin typeface="Calibri"/>
              </a:rPr>
              <a:t>Guideline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Has informational link to NIOSH Analytical Method 7082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0147-CDC8-46FD-9FFA-1ACA76FB331F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ces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13.5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EPA Information on Drinking Wate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EPA 2-page pamphlet on lead attached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Link to EPA’s Ground Water and Drinking Water home page provided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14.1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EPA-Recognized Laboratories for Analysis of Lead in Paint, Dust and Soi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Links to NLLAP website and list of NLLAP-recognized laboratorie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2A82-279A-42B8-9D44-9114C476A6B6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Overview of Changes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b3b3b"/>
                </a:solidFill>
                <a:latin typeface="Calibri"/>
              </a:rPr>
              <a:t>Regulations and policies issued and implemented by HUD, EPA, CPSC and NP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b3b3b"/>
                </a:solidFill>
                <a:latin typeface="Calibri"/>
              </a:rPr>
              <a:t>CDC elevated blood lead level guidance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b3b3b"/>
                </a:solidFill>
                <a:latin typeface="Calibri"/>
              </a:rPr>
              <a:t>Knowledge gained from field and laboratory experience, and technology advance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b3b3b"/>
                </a:solidFill>
                <a:latin typeface="Calibri"/>
              </a:rPr>
              <a:t>Advice given by HUD and others to housing owners, funders, and lead professional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45D5-7652-4F6A-A13A-6E71B71EF24C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ces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14.2 – (Reserved for future use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5632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Was a procedure for digesting wipe samples using diaper wipes; deleted, since not in use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14.3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Procedure for the Preparation of Field Spiked Wipe Sampl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5632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Procedures, rationale, and sources: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56320">
              <a:lnSpc>
                <a:spcPct val="10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b3b3b"/>
                </a:solidFill>
                <a:latin typeface="Calibri"/>
              </a:rPr>
              <a:t>Source of spiked wipe samples (AIHA)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56320">
              <a:lnSpc>
                <a:spcPct val="10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b3b3b"/>
                </a:solidFill>
                <a:latin typeface="Calibri"/>
              </a:rPr>
              <a:t>Source of paint and dust samples (NIST), with procedures for preparing wipe samples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CFB4-C6B1-4ACD-A1CF-8D818520D77C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27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ces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15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OSHA Lead in Construction Standard Link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Links and encouragement to go to OSHA website, and to seek appropriate legal counsel, because OSHA’s standards, interpretations, and enforcement policy may change over time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16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CDC Guidelines on Lead Poisoning Prevention Link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Links to CDC CLPPP, and NIOSH website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9107-548E-439C-B406-35EB907D1A15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3b3b"/>
                </a:solidFill>
                <a:latin typeface="Calibri"/>
              </a:rPr>
              <a:t>Contact information</a:t>
            </a:r>
            <a:endParaRPr b="0" lang="en-US" sz="36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6840" y="1934640"/>
            <a:ext cx="8458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HUD Office of Healthy Homes and Lead Hazard Contro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www.hud.gov/offices/lea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HUD Lead Regulations hotline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Lead.Regulations@HUD.gov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202-402-7698  (TTY: 800-877-8339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451 7</a:t>
            </a:r>
            <a:r>
              <a:rPr b="0" lang="en-US" sz="2800" spc="-1" strike="noStrike" baseline="30000">
                <a:solidFill>
                  <a:srgbClr val="3b3b3b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 St. SW (8236)</a:t>
            </a:r>
            <a:br>
              <a:rPr sz="28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Washington, DC  20410-300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National Lead Information Cent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800-424-LEAD (5323) (TTY: 800-877-8339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www.epa.gov/oppt/lead/pubs/nlic.ht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4746-A9DE-4BB1-B7A2-E9D74147E390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1: Introduction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Updated discussion and references on: background on childhood lead poisoning, sources of lead, evolution of lead poisoning preven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CDC emphasis on primary prevention, and discussion of CDC response to ACCLPP repor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Qualifications for physicians administering chelation therapy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4B89-D7CB-4019-A83B-B2071F595701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2: Where to Go for Help — Qualifications and Roles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Updated organizational names, addresses, website link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HUD/OHHLHC, and EPA, are public health agencies with respect to childhood lead poison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Roles of housing owners, certified persons, certified firms, accrediting bodi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Importance of good report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3D3F-ACE6-429B-9EEA-AEB8C78BB904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3: Before You Begin — Planning To Control Lead Hazards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EPA Abatement Rule and Renovation, Repair and Painting (RRP) Rule, e.g., certified firms, certified supervisors, certified renovator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HUD Lead Safe Housing Rule (LSHR) aspects, e.g., required evaluation and control activities for federally-owned and -assisted hous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High-level summary of relationship between the RRP Rule and LSHR (detailed summary in regulatory Appendix 6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E8D4-D896-4F6E-93AC-5F3244B7D0DB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3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EPA residential waste disposal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Household waste policy clarification (2000)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Resource Conservation and Recovery Act (RCRA) rule update (2003) codified this policy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See chapter 10 for specific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Project completion: Discussion of cleaning verification and clearanc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7252-1B42-4C19-8247-2CE24884A541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23:38:53Z</dcterms:created>
  <dc:creator/>
  <dc:description/>
  <dc:language>en-US</dc:language>
  <cp:lastModifiedBy/>
  <dcterms:modified xsi:type="dcterms:W3CDTF">2012-11-29T14:46:50Z</dcterms:modified>
  <cp:revision>1</cp:revision>
  <dc:subject/>
  <dc:title/>
</cp:coreProperties>
</file>