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43E-6153-4C9E-866F-3943C787F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3F02-5B7F-4688-B673-A68EA99E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CF1-0215-4C09-8B8F-DF3A9077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543-E9A8-4866-B3C9-9B0CC980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9B5C-8D76-4C5E-A2A2-5A47F349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AC6-9920-4E04-BEE6-F0274D7D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0DD-433E-44EC-A595-51393FE3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2A1-2531-4799-858E-2221D7BF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475-3B32-468C-B8E3-528DEDB4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EC96-B166-4A1C-B38A-0B93AC4E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691-51E7-4561-B5A9-110ECE3C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C7F5-D4DB-4317-927C-88F3F1A2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28B9-C75A-40E7-A8AC-2095C3BA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D6A-222E-4A72-B6EB-25E007CD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242-E419-445B-A2F3-8358BAB1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723-E869-4B42-A98F-327ACE4F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9AC-D109-479A-9A15-E7D88863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EBA-F041-4647-92FE-963F7B23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2B6-E51B-418F-83B0-78669549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8514-27EE-4556-9717-52B5A34C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740-3A20-4211-97CB-31B4DFC4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06D8-6EAB-4DC1-A2DA-017BD582D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19F-69FA-47C4-861C-9575DD7B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9ED-57DB-49E4-94F7-B43449E6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D5F-5387-46F6-988F-59173875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68C9-D338-4FED-8ABA-7487151E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8AD2-12A5-48E2-8911-BEBC1DAE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3CD-DED1-45C7-BF50-5841DA85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6D2-0F71-40AA-AC84-01959E97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12D1-E64B-4E2E-8244-0FA539BC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1F8A-3F1F-44F0-88B1-7E230BE1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407E-3225-4BDC-9EB0-C65B8EC7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C208-8647-40D9-A496-F9BDE7185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69C-246D-4612-8552-7CC0CEDF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295-7C30-463F-99AF-7B7B2F9F3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CF89-2BB7-489D-9778-0CD54E6B2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EBD2-E30D-424F-A4FF-6B07567A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28C-7B60-424F-A479-B4A37269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A29-455B-4DF1-AE8F-933BEADE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6D5-1760-464B-AD9C-9B3D96AD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2924-E56B-4CC3-AB5C-1038C2C9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12C-1480-4EFB-857F-AF43BDB5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8F06-4EFE-4124-AE96-16DD3EAA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BDD0-4E81-4C62-B8F0-DC7EE8D0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370C-AC6C-4E0F-A823-D923612E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C44-1F9E-4126-8ED5-6BAA4672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A07-99E1-4F3E-8C6C-5C68AB2B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6A34-FAC7-41FA-A6E7-2C98811A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8344-B8F5-4FAD-A4C0-D68CD523B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96DE-861B-41CB-B046-EEC2B498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B2BE-F76A-4DB8-BF25-29901AA8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20D-82E1-4CD7-AC33-8F97ECB4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7569-5BBE-495C-970D-30AA03FE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26E-317E-4364-959C-B8087BB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480-6447-4323-8E66-4D65A4BF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A13-D2F9-42D9-825F-8E6C685B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A77-AEB7-43AF-BD74-8B738C7E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79EA-5FE4-4251-AADD-011A4C1F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3721-F615-4921-97DB-EB7251D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B8B-A19D-4919-BDDF-E1268F5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26C-F938-4C6B-8A14-04139BB0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106C-10C2-4E80-867E-800CBE4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8B96-A2A9-47CF-939C-03661BEA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976A-EBF4-4396-8207-CD9BA2B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E67-04E5-4CFD-BDB1-B91A35B3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1EA7-3BAC-44DA-8546-194B0F1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99C2-81EE-4BB0-BBB9-6D87471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2A1E-6B3E-4F95-9B3F-3D7FD43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1A5-3119-4D09-B4AE-A041BAB3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970B-788C-4BF8-B42D-F4E00A9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73B9-CF2F-4360-B28B-34F3C479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8E2D-C92B-4C4B-883B-5F88483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4C5E-781B-4AC4-84DB-4606FAB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3631-A81E-4E7D-AC5C-5551DC1C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262F-FC8F-4C30-8E67-911C9FF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068-7CEE-4955-8A9B-72A084AD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EE0F-2C60-4360-99F3-DAA5990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EE8D-63C9-4F54-BC87-32DA5B82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EAD1-165A-4D33-B52C-B364370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1A27-265A-4384-9657-DBA8DA27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0D0F-97EA-48E4-9CE3-B3BE882F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7C73-5663-4BDE-BEEC-39FE9E0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A4FA-63C9-4835-9867-9ACDACF4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AE4C-7080-4BA3-AAD3-7516A030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6A24-524C-4626-ABD7-8E980AA6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3D57-7A4A-432E-9E23-9512C944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F0C-0FA6-420B-99F1-425673B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781D-3948-48FA-9AF2-4D1B0DD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9100-F0C4-4AD4-94F8-C2063FF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A196-ED3E-4AA4-837D-47101A8D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9AC1-E033-4EA5-818F-7385954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4F3B-19A2-4EF9-94E5-DAB35EA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802A-9D80-448A-8152-BF1AB3B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BD5F-4D17-4F13-8EBA-97C25E9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9231-D8B6-4311-B123-246FD64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B3A9-1C42-4EE5-B15D-3911D38D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D09A-E4DD-4C3E-920D-BCAE5E80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9D2-368B-4752-9EAE-42CF97BD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3831-CB9D-4C46-B398-F4B99ADF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E5560-F933-4F5D-BB84-CD994E1B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B5880-9F62-49D5-8D47-B789F54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6F924-1764-457D-9A02-BF59C19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7A2F-6972-49F9-A0DF-DFB933D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61F4-018A-400D-8D6E-E1600E8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4BA4-40E2-4C4F-A9E9-BE2E494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2B94-05FD-441C-99A2-4EFA61E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8478-E3FC-44D5-B303-3FBE085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151E-328C-4BD3-8A6D-357203A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E37-1877-4849-B7C5-3EF512E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3BC1-FC1B-4A43-9780-8540EA22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F5A0-A97C-4CCE-AD61-231440B7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6E1B-674D-4D0B-941D-79AB0CC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6CB8-1BE7-48FC-B8A6-1BC83A33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B92D3-8DB0-49A8-8288-F177D446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0B69-0E6D-4AF0-BB1E-18BB4322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4CFD-F531-4087-9B90-14E596BB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890B-0287-4CA9-A03E-9398C1B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96A3-D690-4445-B28E-74229F0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B307-7D36-433D-B56F-855BE98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49C-A9CA-4A6C-BFB2-3D40BE5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340C-26AB-4125-A7A5-515DD4D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00AE-4388-4BE5-BD53-DEA40B36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74D1-5333-47E7-BED0-B6F1D4A5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5F5-C5E2-4588-9B1A-745ECCDD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2A6-F356-48FE-A365-10459EA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CEE-76A9-4E97-8878-5E4960180931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F936-D715-41A0-9F28-FDB3A3C70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13" descr="hh_logo_color.gif"/>
          <p:cNvPicPr/>
          <p:nvPr/>
        </p:nvPicPr>
        <p:blipFill>
          <a:blip r:embed="rId4"/>
          <a:stretch/>
        </p:blipFill>
        <p:spPr>
          <a:xfrm>
            <a:off x="228600" y="152280"/>
            <a:ext cx="1474920" cy="1016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A53-780E-4B79-ACE6-0F9C7A92B2D0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6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9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2d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2d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c8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0B8B-3A7A-402A-9113-D5DF4E67CCD9}" type="slidenum">
              <a:rPr b="0" lang="en-US" sz="1200" spc="-1" strike="noStrike">
                <a:solidFill>
                  <a:srgbClr val="cac8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a00">
                  <a:alpha val="45098"/>
                </a:srgbClr>
              </a:gs>
              <a:gs pos="100000">
                <a:srgbClr val="7a75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4607a">
                  <a:alpha val="45098"/>
                </a:srgbClr>
              </a:gs>
              <a:gs pos="100000">
                <a:srgbClr val="d6b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8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942-6185-450F-B215-B7449CCCC741}" type="slidenum">
              <a:rPr b="0" lang="en-US" sz="1200" spc="-1" strike="noStrike">
                <a:solidFill>
                  <a:srgbClr val="3838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-6480" y="603360"/>
            <a:ext cx="9247320" cy="2957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3080" y="57150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42d"/>
                </a:solidFill>
                <a:latin typeface="Calibri"/>
                <a:ea typeface="Verdana"/>
              </a:rPr>
              <a:t>HUD Office of Healthy Homes and Lead Hazard Contro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42d"/>
                </a:solidFill>
                <a:latin typeface="Calibri"/>
                <a:ea typeface="Verdana"/>
              </a:rPr>
              <a:t>September 4, 2012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3" descr="hh_logo_color.gif"/>
          <p:cNvPicPr/>
          <p:nvPr/>
        </p:nvPicPr>
        <p:blipFill>
          <a:blip r:embed="rId2"/>
          <a:stretch/>
        </p:blipFill>
        <p:spPr>
          <a:xfrm>
            <a:off x="2014560" y="3581280"/>
            <a:ext cx="2405160" cy="16765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1 HUD Guidelines Section Edition outside cover.2012-08-29.jpg"/>
          <p:cNvPicPr/>
          <p:nvPr/>
        </p:nvPicPr>
        <p:blipFill>
          <a:blip r:embed="rId3"/>
          <a:stretch/>
        </p:blipFill>
        <p:spPr>
          <a:xfrm>
            <a:off x="5275440" y="3581280"/>
            <a:ext cx="1353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4: Lead-Based Paint and Housing Renov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descriptions of OSHA, EPA and HUD rules and ro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LBPH and LBP definitions are under collaborative review by EPA and HU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 Ru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prohibited methods under EPA rules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D817-72AF-4313-8F09-4D8D5F819E29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5: Risk Assessment and Reevalu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EPA lead training and certification (402) rule, State / Tribal certification program authorizations,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tinguishes risk assessment (RA) from environmental investig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composite sampling, but gives pragmatic reasons for not encouraging i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random sampling of types of common are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3A3-1DBE-4A96-9122-85A8FE9CAE3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STM voluntary consensus standards for dust-lead and soil-lead sampling and analys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vised model questionnaires and field sampling fo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obile laboratories re NLLAP in EPA and State/Tribal certification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odel RA report executive summary forma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A report example (in Appendix 8.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F90-6C1F-43E4-96C3-B8D32F2F0A5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6: Ongoing Lead-Safe Maintenanc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relationship among ongoing maintenance, interim controls, and renov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, RRP,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fo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45D-3F3D-4E91-8400-1753C5DFC672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: Lead-Based Paint Inspe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EPA certification program, and State / Tribal certification program authoriz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there are other analyses besides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X-ray fluorescence (XRF) and the common lab methods (AAS, ICP-AES, ASV) that may be used by a laboratory with NLLAP recogni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mphasizes that results and LBP inspection / RA reports using an XRF without a current Performance Characteristic Sheet are invali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5A56-7D0D-47AC-9FED-24EF2A7E182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ASTM voluntary consensus standards for sampling and analys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s recommended report summary paragraphs on disclosing where LBP was, and was not, identifi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s noted previously, LBP definition under collaborative review by EPA and HU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6C7-A470-492B-B6C3-D639F9C7A05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commends that owners of LBP-free leasing properties retain reports for the life of the building, to prove easily that lease transactions are exempt from the Lead Disclosure Ru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commends that other owners retain the reports as we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mobile laboratories re NLLAP in EPA and State/Tribal certification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EDF-D9DE-4151-951E-09060153ADF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7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testing of non-paint surfaces, e.g., unpainted ceramic tile and porcelain bathtub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urfaces are not LBP, and not covered by the Lead Disclosure Rul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ometimes tested before renovation if they will be broken or crushed, re worker protection and clearance issu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192-F208-4317-8E1D-173301EC0C9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8: Resident Protection and Worksite Prepar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PRE and RRP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xpands discussion of OSHA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tep-by-step worksite preparation descrip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Strongly discourages high-dust job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E298-E861-4C0E-A170-206063A756B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9: Worker Prote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nsiderably shortened, since OSHA’s guidance for its Lead in Construction standard has been issued (links are provided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protective clothing and equipment (e.g., respiratory protection standard) inf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OSHA hazcom rule revision (3/26/2012) with global harmonization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(e.g., revised lead warning sign and lead-contaminated clothing container label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88D8-1F12-4040-BE70-E413A4D04A4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Developmental participant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First draft by National Center for Healthy Housing (NCHH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CF International provided editorial sup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trium Environmental Health and Safety Services performing formatting and layout for Web po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staff completed the revision, with greatly appreciated external and internal review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4F7-4AEB-4759-AF0B-E959D113BEE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0: Housing Wast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waste rules and guidance, esp.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olicy clarification (2000) exempting most residential LBP waste generated by contractors as well as residents, but not concentrated lead waste (e.g., paint strippings, lead paint chip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source Conservation and Recovery Act (RCRA) rule update (2003) codified this polic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EA6-F32B-4E62-A184-CC06AA413BA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1: Interim Control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PRE, RRP an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rovides updated step-by-step procedural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iterates HUD policy that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learance is highly recommended …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ven when not required by regulation”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of HUD or EPA, while noting the role and benefits of those regul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EED9-5B9C-4554-9F4B-6F4A132EA9C1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2: Abatement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402 abatement rule and HU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, re metal components, that factory applied primers in sound condition need not be abated or removed in an abatement proje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C32-D13A-4BA0-81A0-A7B67EDB7E8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3: Encapsul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encapsulation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with a less-than-20 yr expected life, o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without a 20 yr-or-longer encapsulation maintenance pl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s RRP / interim control, not abate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otes that EPA volatile organic compounds emissions rule for architectural coatings may cover encapsulation; the determination is product-, method- and site-specific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68FB-294D-48D4-A01A-D7CEB9B33B60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4: Cleaning Following Hazard Controls or Other Paint-Disturbing Work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to reflect methodology research resul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types of vacuums, use of TS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use of on-site preliminary dust testing (e.g., XRF, ASV) before clearance exam when achieving clearance known to be difficult (e.g., high dust-lead and paint-lead levels before work, surfaces not smooth &amp; cleanabl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330-D115-4E9A-8839-1BCBF5177247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: Clearance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lects EPA lead abatement regulations and HUD LSH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For certified dust sampling technician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RRP Rule allowing them to conduct optional clearance, an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LSHR allowing them to conduct clearance if exam approved and report signed by certified RA or LBPI, but not to randomly select testing units / lo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318D-4D19-48E4-B9B7-56AF9CD20C8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se of voluntary consensus standard (ASTM) metho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mposite sampling of dust not encouraged; procedures described for it if conduct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es use of on-site dust testing (e.g., XRF, ASV) for clearance exam by NLLAP-recognized mobile laborato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716-B21F-4A37-ACAD-BB432421CC8E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5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able of recommended minimum number and locations of dust samples for four clearance categories (interior with containment, without containment; worksite-only; exterior work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discussion on option to determine if specified hazard control work was do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Discussion and checklists for clearance report prepar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732D-2B01-4E4D-A43B-228DFEC977E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6: Investigation and Treatment of Dwellings that House Children with Elevated Blood Lead Level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summary of recommendations as a function of B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list of actions recommend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New description of assessment/ remed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DC response to ACCLPP re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ending decisions on HUD rulemaking, retains EIBLL thresholds and approach, so HUD and state/local agencies have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D1F-7E45-4F9F-8441-6BEEA5B985B9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7: (Reserved for future use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he content of the first edition’s chapter 17, </a:t>
            </a:r>
            <a:r>
              <a:rPr b="0" i="1" lang="en-US" sz="3200" spc="-1" strike="noStrike">
                <a:solidFill>
                  <a:srgbClr val="3b3b3b"/>
                </a:solidFill>
                <a:latin typeface="Calibri"/>
              </a:rPr>
              <a:t>Routine Building Maintenance and Lead-Based Paint,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is incorporated into revised chapters: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6 (ongoing lead-safe maintenance), and </a:t>
            </a:r>
            <a:br>
              <a:rPr sz="3200"/>
            </a:b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11 (interim control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hapter 17 is now reserv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FC7-5ED3-4D97-AC58-BBA9A42836A4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Reviewer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ernal reviewe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vin Ashley, CDC/NIO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na Thomas, US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y Jean Brown, CDC/NCE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e Wasserman, LEWCor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tt Clark, U. of Cincinnat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neth T. White, Consultive Servi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y Dewalt, QuanTe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athan Wilson, NCH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l Duff, Liability Consultants, LLC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c Edmonds, EP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Internal HUD review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uck Fisher, N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ter Ashl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mas Galassi, OSH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ancy Bo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s Hatelid, CPS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arren Fried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 Henshall, EP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aren Grieg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vid E. Jacobs, NCH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uce Hab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ry McGowan, OSH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e Ann Richards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becca Morley, NCH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ugene Pinz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n Morony, EP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achel Ril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ckie Mosby, EP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John Shumw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ron Sussell, CD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bert Weisber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A4C-D705-42FC-86AF-2D8BF375449E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8: Lead-Based Paint and Historic Preserva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re National Parks Service guid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nvokes RRP, LSHR, OSH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autions on chemical stripping re glue mel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To protect housing’s historicity, recommends n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Caustic strippers that can raise wood grain (unless supervised by a trained specialist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ower sanding that can abrade wood surfa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ot-tank dipping that may loosen glued join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835-C4A0-4444-BC50-F778C325BCED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Glossary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with new ter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onsistent with regulatory definitions; many are simplified to enhance field usabil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larified definitions where users had expressed concer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628-BDE6-4004-9238-8E68D993B8A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- Overall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Many appendices are now links to websites developed since the first edition, or to a chapter in this second edi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eferences and Web links in many appendices are updat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Appendix 6, on HUD, EPA, OSHA, CPSC and NPS lead paint regulations, reflects current regulations, guidance and training materia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C28-7072-431F-AF41-3A5F1FBA61BF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Units of Measure Used in the Lead-Based Paint Fiel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Terms, definitions and conversions of various units (mass, concentrations, thresholds, etc.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DC’s Childhood Lead Poisoning Prevention Program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CDC-assisted State and local CLPPP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244-D8E1-4E79-BF22-F8627783C87D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 Regional Offi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EPA Regional Offi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SHA Regional Offices and State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OSHA regional offices and a list of State OSH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5 </a:t>
            </a:r>
            <a:r>
              <a:rPr b="0" lang="en-US" sz="3200" spc="-1" strike="noStrike">
                <a:solidFill>
                  <a:srgbClr val="3b3b3b"/>
                </a:solidFill>
                <a:latin typeface="Constantia"/>
              </a:rPr>
              <a:t>– </a:t>
            </a: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EPA Training, Certification and Accreditation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list of program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39E-61F2-49BD-8D57-FB7E3CD3213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5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ructured On-the-Job Training (OJT) vs. Unstructured OJ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iscussion, with references, of SOJ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Jobs analyzed and broken down into component tasks; instructors given lesson plans and material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nsistency and cost-effectiveness discussed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iscussion of criteria for completing OJT for LBP activities, e.g., in RRP Rul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Basis for HUD’s recommendation of SOJ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7D74-6CE5-4A83-B9A3-5D1829FE5727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6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HUD, EPA, OSHA, CPSC, and NPS Lead Paint R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Overviews, and guidance materials on, these rule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-HUD Lead Disclosure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HUD Lead Safe Housing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Training and Certification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Renovation, Repair and Painting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8E5C-CB3D-4710-ACBB-B10A826624D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6 (cont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Differences and interactions between HUD’s LSHR and EPA’s RRP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EPA Pre-Renovation Education ru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OSHA Lead Regulations (general industry, and construction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PSC bans of lead-containing paint, and lead in consumer products used by childre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NPS rules and guidance on protection of historic properti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96A5-A36B-43BD-A401-130ABAEEB1A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ad been a list of elements of RFPs for risk-assessments and inspections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Types of Lead-Based Paint Enclosure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Information that can be used for purchas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on language that may be helpful in drafting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6EF0-445C-4BCF-BB43-E83C9246F1A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Generic Lead Based Paint Specifi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DoD Unified Facilities Guide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 based paint hazard abat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Safety and occupational health requir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Removal/control and disposal of paint with le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 in co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NIBS LBP guide specs and O&amp;M manual no longer in print, so deleted from App. 7.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D52B-69C8-4452-893E-9E297E0251F0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04920" y="23623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book in one fig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Figure 3-5 3Apr2007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7.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Guidance on Specifications for Interim Control of Soil Lead Hazards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on language that may be helpful in drafting specific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Methods, products, materials, referenc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76A-1900-4A70-B6CA-E3464C07F152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8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xample of a Pre-Rehabilitation Risk Assessment and Limited Paint Testing Report for a Single-Family Dwelling Operated By a Small-Scale Own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Adapted from “Making it Work: Implementing the Lead Safe Housing Rule in CPD-funded Programs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A detailed report, in order to provide sample content and styles for all of the report seg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64D4-B98D-45F4-ABE8-AED2891F75CC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8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xample of a Risk Assessment Report for Large Multifamily Housing Developmen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Now a referral to Chapter 5, Section VI.E, for a recommended format for a repor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A78-7601-4D37-861C-734AA7733E56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9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Lead-Based Paint Liability Insur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Guidance to owners on liability insurance re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rofessional liability coverage for LBP evaluatio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ntractor’s pollution liability coverage for LHC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Relation of lead coverage to existing coverag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overages depending on who does what (owner’s employees, contractors, consultants, etc.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7933-C0D5-48F7-BAC2-4B8DC2E31D0E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9 (cont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Claims-made and occurrence coverag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olicy limits and aggregat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Policy limits and deductibl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lnSpc>
                <a:spcPct val="100000"/>
              </a:lnSpc>
              <a:spcBef>
                <a:spcPts val="675"/>
              </a:spcBef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Recommended minimum characteristics for insuring entiti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0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as Q&amp;As on sampling LBP HW; deleted because now under EPA household HW exemp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Refers to Chapter 10 for guida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FF50-9103-42D6-BF0C-FEBF94520C5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0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ate and Territorial Hazardous Waste Management Agenc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EPA list of State and territorial waste management agenci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ne-Hour Waiting Period Rationale for Clearance Sampl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oints to published research cited in Chapter 15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80C9-16A5-438E-B2F6-9EF015FB53F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Statistical Rationale for Sample Sizes and Percentages Used in Guidance  for Inspecting in Multi-Family Hou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Methodology behind Table 7.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Wipe Sampling of Settled Dust for Lead Determ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 1728 lead dust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85A-9370-44EA-8CC7-850078F9A1EB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2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Paint Chip Sampl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1729 paint chip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ollecting Samples for Lead Contam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An alternative to the ASTM E1727 soil sample collection protoco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EC75-0823-405E-A96C-ED82D5210CE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4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(Reserved for future use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Was a procedure for sampling airborne particulate for lead; deleted because it is outside the scope of these </a:t>
            </a:r>
            <a:r>
              <a:rPr b="0" i="1" lang="en-US" sz="3000" spc="-1" strike="noStrike">
                <a:solidFill>
                  <a:srgbClr val="3b3b3b"/>
                </a:solidFill>
                <a:latin typeface="Calibri"/>
              </a:rPr>
              <a:t>Guidelin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as informational link to NIOSH Analytical Method 7082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C773-701E-404E-9198-28DEECD3870F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3.5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 Information on Drinking Wa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EPA 2-page pamphlet on lead attach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 to EPA’s Ground Water and Drinking Water home page provid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1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EPA-Recognized Laboratories for Analysis of Lead in Paint, Dust and Soi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NLLAP website and list of NLLAP-recognized laboratori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3B3-C8C5-4009-BF51-65638CED20D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Overview of Chang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Regulations and policies issued and implemented by HUD, EPA, CPSC and NP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CDC elevated blood lead level guidance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Knowledge gained from field and laboratory experience, and technology advance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b3b3b"/>
                </a:solidFill>
                <a:latin typeface="Calibri"/>
              </a:rPr>
              <a:t>Advice given by HUD and others to housing owners, funders, and lead professionals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070-129F-4AC1-B2E0-7C41A097DA6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2 – (Reserved for future us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Was a procedure for digesting wipe samples using diaper wipes; deleted, since not in us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4.3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Procedure for the Preparation of Field Spiked Wipe Samp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5632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Procedures, rationale, and source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Source of spiked wipe samples (AIHA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5632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b3b3b"/>
                </a:solidFill>
                <a:latin typeface="Calibri"/>
              </a:rPr>
              <a:t>Source of paint and dust samples (NIST), with procedures for preparing wipe sampl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AE72-478C-483D-AEE2-BF9FD5BB275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ces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5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OSHA Lead in Construction Standard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and encouragement to go to OSHA website, and to seek appropriate legal counsel, because OSHA’s standards, interpretations, and enforcement policy may change over tim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Appendix 16</a:t>
            </a: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 – CDC Guidelines on Lead Poisoning Prevention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Links to CDC CLPPP, and NIOSH websit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F1F4-1909-4C0D-B297-C6F8B91CE283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3b3b"/>
                </a:solidFill>
                <a:latin typeface="Calibri"/>
              </a:rPr>
              <a:t>Contact information</a:t>
            </a:r>
            <a:endParaRPr b="0" lang="en-US" sz="36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HUD Office of Healthy Homes and Lead Hazard Contr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ww.hud.gov/offices/le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HUD Lead Regulations hotline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Lead.Regulations@HUD.go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202-402-7698  (TTY: 800-877-833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451 7</a:t>
            </a:r>
            <a:r>
              <a:rPr b="0" lang="en-US" sz="2800" spc="-1" strike="noStrike" baseline="30000">
                <a:solidFill>
                  <a:srgbClr val="3b3b3b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St. SW (8236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ashington, DC  20410-300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National Lead Information Cen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800-424-LEAD (5323) (TTY: 800-877-833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buClr>
                <a:srgbClr val="ccaf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www.epa.gov/oppt/lead/pubs/nlic.ht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E157-4C81-47C8-8186-48939F8706F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1: Introduction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discussion and references on: background on childhood lead poisoning, sources of lead, evolution of lead poisoning preven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CDC emphasis on primary prevention, and discussion of CDC response to ACCLPP re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Qualifications for physicians administering chelation therap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EA81-5ACB-486C-8513-C004EA9AC735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2: Where to Go for Help — Qualifications and Role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Updated organizational names, addresses, website lin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/OHHLHC, and EPA, are public health agencies with respect to childhood lead poiso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Roles of housing owners, certified persons, certified firms, accrediting bod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Importance of good repor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120-94EE-49FD-B273-C53BD3F7316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3: Before You Begin — Planning To Control Lead Hazards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Abatement Rule and Renovation, Repair and Painting (RRP) Rule, e.g., certified firms, certified supervisors, certified renovato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UD Lead Safe Housing Rule (LSHR) aspects, e.g., required evaluation and control activities for federally-owned and -assisted hou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High-level summary of relationship between the RRP Rule and LSHR (detailed summary in regulatory Appendix 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A16-0D15-4595-BC52-4D1332A6228A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</a:rPr>
              <a:t>Chap. 3 (cont.)</a:t>
            </a:r>
            <a:endParaRPr b="0" lang="en-US" sz="3200" spc="-1" strike="noStrike">
              <a:solidFill>
                <a:srgbClr val="3b3b3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EPA residential waste disposal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Household waste policy clarification (2000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Resource Conservation and Recovery Act (RCRA) rule update (2003) codified this polic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Calibri"/>
              </a:rPr>
              <a:t>See chapter 10 for specific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</a:rPr>
              <a:t>Project completion: Discussion of cleaning verification and cleara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D9E-AC78-4BA4-AFD3-387627945B18}" type="slidenum">
              <a:rPr b="0" lang="en-US" sz="1200" spc="-1" strike="noStrike">
                <a:solidFill>
                  <a:srgbClr val="3838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23:38:53Z</dcterms:created>
  <dc:creator/>
  <dc:description/>
  <dc:language>en-US</dc:language>
  <cp:lastModifiedBy/>
  <dcterms:modified xsi:type="dcterms:W3CDTF">2012-11-29T14:46:50Z</dcterms:modified>
  <cp:revision>1</cp:revision>
  <dc:subject/>
  <dc:title/>
</cp:coreProperties>
</file>