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361FB-B1A2-43CB-8D24-C5EAAF776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8CE6D-7768-4921-AA6C-FDF9ABF0F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C07FF-6B6F-4AC4-AE82-8BF59AAE1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623ED-37A0-4967-B469-825C91BF2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9440-7AC0-442A-8C60-3A1BC3C58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1A411-D249-459B-AA4D-C5872AE7C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154F9-2EED-494A-88EB-6A32847B0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F947A-0E48-4135-94D0-DD1984B2B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FB543-B02C-4DD4-8740-2BE8617B9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1F87-112D-4615-AC15-B98361095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BD9FB-27F9-45B4-919A-97E8FEC3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C55D3-D56C-4A5C-A38B-59064C4DA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BC77-04B7-474A-8CF9-48A90F922B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UD1024"/>
          <p:cNvPicPr/>
          <p:nvPr/>
        </p:nvPicPr>
        <p:blipFill>
          <a:blip r:embed="rId1"/>
          <a:stretch/>
        </p:blipFill>
        <p:spPr>
          <a:xfrm>
            <a:off x="0" y="0"/>
            <a:ext cx="9144000" cy="6858000"/>
          </a:xfrm>
          <a:prstGeom prst="rect">
            <a:avLst/>
          </a:prstGeom>
          <a:ln w="0">
            <a:noFill/>
          </a:ln>
        </p:spPr>
      </p:pic>
      <p:sp>
        <p:nvSpPr>
          <p:cNvPr id="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48DE-B4B8-488C-889E-E441B682F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effective 1/1/2012:</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month’s HAP disbursement is based on the most recent quarter’s validated VMS monthly average HAP cost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to September 2012 disbursements were based on January to March 2012 actual costs – changes at year en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include a margin of 3% of monthly pro-rated eligibility, to account for increased costs and leasing since the base quar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7AC8-E94A-4047-A386-3C02DEC99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70" name=""/>
          <p:cNvSpPr txBox="1"/>
          <p:nvPr/>
        </p:nvSpPr>
        <p:spPr>
          <a:xfrm>
            <a:off x="457200" y="167652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that require additional funds are contacting their FA at the FM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 provides actual costs for intervening months not yet reported in VMS; known costs for the upcoming month or quarter; and NRA funds avail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are limited to total funds obligated and avail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7D4D-D157-449D-9D61-9DB6FE733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continue to be made on the first of the month – to ensure PHAs do not receive funds in advance of ne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are reconciled to actual HAP expenses at the end of each quarter, once actual costs are validated in V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equent disbursements are adjusted to recoup any excess provid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disbursement is made to cover any shortage in funds provid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6647-81C5-4705-BEF9-BDC607DBF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76" name=""/>
          <p:cNvSpPr txBox="1"/>
          <p:nvPr/>
        </p:nvSpPr>
        <p:spPr>
          <a:xfrm>
            <a:off x="457200" y="12952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is repeated quarter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mental funds have been disbursed based on contract dates – this is under review, since many PHAs are receiving excess disburs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 reconciliation will be completed at year-end to:</a:t>
            </a:r>
            <a:endParaRPr b="0" lang="en-US" sz="28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6AFE-0EF3-4326-B30D-C01AC7BCB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79" name=""/>
          <p:cNvSpPr txBox="1"/>
          <p:nvPr/>
        </p:nvSpPr>
        <p:spPr>
          <a:xfrm>
            <a:off x="457200" y="1600200"/>
            <a:ext cx="8229600" cy="4952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culate total HAP expenses incurred by the PHA for the year and compare them to total HAP disbursements to the PHA for the year, in order to determine whether the PHA has received excess or insufficient advances. An additional payment or offset will be provided as needed to complete this reconciliation of funds, if funds available (cash reconcili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7161-84F5-474D-94F5-4A1B4D48A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 HAP budget authority provided and other revenue for the year to HAP costs for the year in order to determine the increase or decrease to the program reserve and the new balance (program reserve reconcili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ce inception, the process has been running smoothly – thank you for your cooperation</a:t>
            </a:r>
            <a:endParaRPr b="0" lang="en-US" sz="28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8020-2F7E-4CEA-B811-F647973C4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85"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 HAP funds, and existing NRA balances, must be maintained by the PHA in an interest-bearing account; when the CY is reconciled, the interest will be returned to the Treasu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h management process will result in the re-establishment of the program reser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 HAP funds will be held by HUD in the Treasury, rather than by the PHAs in the NRA accou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0C80-4D89-482C-8B9A-19F26611E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s new budget authority into program reserves if it is not needed for current expen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NRA balances will be transitioned to the program reserves, via either their use in lieu of HUD disbursing new budget authority or by direct return from the PH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not take action to do this until advised by HUD</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2394-F415-45BF-B067-919A02791C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91" name=""/>
          <p:cNvSpPr txBox="1"/>
          <p:nvPr/>
        </p:nvSpPr>
        <p:spPr>
          <a:xfrm>
            <a:off x="457200" y="1600200"/>
            <a:ext cx="82296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h management procedures do not change the annual allocation available to each PHA, just the disburs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 allocations will continue to be calculated per the Appropriations Act requirements – PHA required portion of the total allocation will be disbursed and the balance will be held for the PHA in the program reserves</a:t>
            </a: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72E0-67C0-48DC-B431-F4F322706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tion of NRA balances to the program reserve will not affect their availability to the PH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will be able to access both undisbursed budget authority and program reserves as needed through the FM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B215-DE4D-4FD7-863B-F983C1FB2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AAFF-0C81-487F-B91F-43926E532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p:nvPr>
        </p:nvSpPr>
        <p:spPr>
          <a:xfrm>
            <a:off x="0" y="685440"/>
            <a:ext cx="9144000" cy="5334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ing Choice Voucher Program Financial Management </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 Implementation Update</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ctober 10, 2012</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h management procedures apply to MTW agen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disbursements are based on VMS HAP repor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request any additional amounts needed each month from FMC FA, for non-HAP expenditures to be made that month</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0BD2-6F14-497E-AB83-3443E8B4E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100"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D does not intend for any Voucher participants to lose their assistance as a result of the cash management proc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HA who cannot cover its HAPs with disbursed funds plus available NRA should contact its financial analyst at the FMC immediately to request a frontload of additional funds and begin resolving any cash probl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additional funding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800E-6548-4CC4-85D7-ADE8AC483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 were provided a calculation of disbursements to be made for the 4</a:t>
            </a:r>
            <a:r>
              <a:rPr b="0" lang="en-US" sz="3200" spc="-1" strike="noStrike" baseline="30000">
                <a:solidFill>
                  <a:srgbClr val="000000"/>
                </a:solidFill>
                <a:latin typeface="Calibri"/>
              </a:rPr>
              <a:t>th</a:t>
            </a:r>
            <a:r>
              <a:rPr b="0" lang="en-US" sz="3200" spc="-1" strike="noStrike">
                <a:solidFill>
                  <a:srgbClr val="000000"/>
                </a:solidFill>
                <a:latin typeface="Calibri"/>
              </a:rPr>
              <a:t> quarter, an explanation of the calculations and a cover l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to document for the PHAs how HUD determined the disbursements and the status of their funds for CY 2012</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92DA-0991-4D2A-AB18-B9768306F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advances based on estimates – not earn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PHA needs more funds from their allocation, and funds are available, they can be disbur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is to provide advances as close as possible to actual needs, and not provide excess</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1864-CA31-4863-9017-FE4910E5D9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PHA thinks they should have more BA available then enclosure shows, contact your FA at o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 calculations are more complicated this quarter than in the pa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Cumulative adjustmen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 PHAs are running out of BA</a:t>
            </a:r>
            <a:endParaRPr b="0" lang="en-US" sz="28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0EE8-19A8-4CEB-9632-CB347D7B73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s constantly moving, so this represents a point in tim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DCAPS obligations may have occurred after date was extract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 may have entered VMS revision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adjust data after each quarter so obligations and disbursements are brought up to date</a:t>
            </a: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3821-0CDC-427F-874B-C3E33110CA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D will set a date by which any year-end changes must be entered, before final reconciliation is comple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31/2011 NRA balance must be final at that time as well, to prepare for movement of 12/31/2012 balance to program reserves (no NRA accrued after 12/31/2011, but NRA may have been expended in 2012)</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C212-7140-4A5A-B239-ECA564955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 thru 7</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immediately below Line 2 provides the monthly disbursements; the calculations below support those amou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3 thru 7 unchang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HAP costs for three months of the latest validated quarter (2 qtrs prio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 months’ costs are totaled and averaged to yield the basic disbursement</a:t>
            </a:r>
            <a:endParaRPr b="0" lang="en-US" sz="2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9C47-748F-4A59-930F-16E63D243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21" name=""/>
          <p:cNvSpPr txBox="1"/>
          <p:nvPr/>
        </p:nvSpPr>
        <p:spPr>
          <a:xfrm>
            <a:off x="380880" y="167652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A Enclosure Lines 8 thru 13</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ail the 2012 renewal funding and determine average monthly obligation available</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ne 8 pro-rated funding eligibility minus Line 9 NRA offset yields actual allocation – BA – on Line 10 (from funding calculations and any HUD-approved change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ne 11 monthly allocation is Line 10 divided by 12 – offset not considered here</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8092-E0C4-4CBD-BA04-77FA9CFE56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8 thru 1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2 is the monthly margin: additional disbursement amount to account for cost and leasing incre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 of Lines 8 thru 13 is to calculate this margin amou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gin added to 3 month average to yield calculated monthly need on line 13</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A90F-B8C8-41B5-BF9A-31907691F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oday’s Topics</a:t>
            </a:r>
            <a:endParaRPr b="0" lang="en-US" sz="3600" spc="-1" strike="noStrike">
              <a:solidFill>
                <a:srgbClr val="000000"/>
              </a:solidFill>
              <a:latin typeface="Calibri"/>
            </a:endParaRPr>
          </a:p>
        </p:txBody>
      </p:sp>
      <p:sp>
        <p:nvSpPr>
          <p:cNvPr id="46"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ash Management Procedures Implemented January 1,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pdate on Cash Management – 4</a:t>
            </a:r>
            <a:r>
              <a:rPr b="0" lang="en-US" sz="3200" spc="-1" strike="noStrike" baseline="30000">
                <a:solidFill>
                  <a:srgbClr val="000000"/>
                </a:solidFill>
                <a:latin typeface="Calibri"/>
                <a:ea typeface="Calibri"/>
              </a:rPr>
              <a:t>th</a:t>
            </a:r>
            <a:r>
              <a:rPr b="0" lang="en-US" sz="3200" spc="-1" strike="noStrike">
                <a:solidFill>
                  <a:srgbClr val="000000"/>
                </a:solidFill>
                <a:latin typeface="Calibri"/>
                <a:ea typeface="Calibri"/>
              </a:rPr>
              <a:t> Qtr 2012 Disburs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pcoming Activities</a:t>
            </a:r>
            <a:endParaRPr b="0" lang="en-US" sz="3200" spc="-1" strike="noStrike">
              <a:solidFill>
                <a:srgbClr val="000000"/>
              </a:solidFill>
              <a:latin typeface="Calibri"/>
            </a:endParaRPr>
          </a:p>
        </p:txBody>
      </p:sp>
      <p:sp>
        <p:nvSpPr>
          <p:cNvPr id="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2401-364A-402D-874C-5094B81D21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4 thru 18</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4: NRA balance at 12/31/2011</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5: Mandated 2012 NRA off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6: Monthly offset Oct to Dec is $0</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ough some PHAs still owe funds to be collec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7: Monthly need after offset = Line 13</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firm that offset has been comple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8: lesser of calculated need on Line 17 or obligation on Line 11</a:t>
            </a:r>
            <a:endParaRPr b="0" lang="en-US" sz="28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39DA-7D79-44CD-9D3F-2083FAB6D9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e – 4</a:t>
            </a:r>
            <a:r>
              <a:rPr b="0" lang="en-US" sz="4000" spc="-1" strike="noStrike" baseline="30000">
                <a:solidFill>
                  <a:srgbClr val="000000"/>
                </a:solidFill>
                <a:latin typeface="Calibri"/>
              </a:rPr>
              <a:t>th</a:t>
            </a:r>
            <a:r>
              <a:rPr b="0" lang="en-US" sz="4000" spc="-1" strike="noStrike">
                <a:solidFill>
                  <a:srgbClr val="000000"/>
                </a:solidFill>
                <a:latin typeface="Calibri"/>
              </a:rPr>
              <a:t> Qtr Disbursements</a:t>
            </a:r>
            <a:endParaRPr b="0" lang="en-US" sz="4000" spc="-1" strike="noStrike">
              <a:solidFill>
                <a:srgbClr val="000000"/>
              </a:solidFill>
              <a:latin typeface="Calibri"/>
            </a:endParaRPr>
          </a:p>
        </p:txBody>
      </p:sp>
      <p:sp>
        <p:nvSpPr>
          <p:cNvPr id="130"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4 thru 18</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change: in prior quarters Line 18 was the monthly advance, if funds were availab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set so PHAs would not assume increasing costs would always be cover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ould be supported because funds were obligated through Octo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vember and December, if need on Line 13 exceeds obligation amount on Line 11, the need will be disbursed if within PHA’s allocation</a:t>
            </a:r>
            <a:endParaRPr b="0" lang="en-US" sz="28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62E1-A7B4-4179-8DFE-0043F06C3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9 thru 2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s BA available for 4</a:t>
            </a:r>
            <a:r>
              <a:rPr b="0" lang="en-US" sz="2800" spc="-1" strike="noStrike" baseline="30000">
                <a:solidFill>
                  <a:srgbClr val="000000"/>
                </a:solidFill>
                <a:latin typeface="Calibri"/>
              </a:rPr>
              <a:t>th</a:t>
            </a:r>
            <a:r>
              <a:rPr b="0" lang="en-US" sz="2800" spc="-1" strike="noStrike">
                <a:solidFill>
                  <a:srgbClr val="000000"/>
                </a:solidFill>
                <a:latin typeface="Calibri"/>
              </a:rPr>
              <a:t> quar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9: Undisbursed BA through Septemb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BA minus disbursements through Septembe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 includes obligated and unobligated, since all will be obligat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 includes funding from all sources: renewal, new increments, set-aside, transfers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as of point in time – may change at year’s end if more funds are obligated</a:t>
            </a:r>
            <a:endParaRPr b="0" lang="en-US" sz="24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2811-9A64-431C-A4F4-CE0E94979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9 thru 2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0: non-renewal disbursements already scheduled for Oct thru Dec</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ed because these funds are not available to support renewal disbursements being calcula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1: amount due to PHA for cumulative under-disbursement for Jan thru June (which may now have been disburs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ed because these funds are not available for renewal disbursements </a:t>
            </a:r>
            <a:endParaRPr b="0" lang="en-US" sz="24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5801-159D-45CD-90A2-CF6F2D853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9 thru 2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2: October renewal disbursement – note it is calculated further d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3: BA available for Nov and Dec renewal disbursem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isbursed BA minus non-renewal disbursements already scheduled minus amount due PHA for under-disbursements minus disbursement scheduled for Octobe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few PHAs have $0</a:t>
            </a:r>
            <a:endParaRPr b="0" lang="en-US" sz="24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DC1B-7B07-4574-A101-370FA1B64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42" name=""/>
          <p:cNvSpPr txBox="1"/>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24 thru 28</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4: Excess funds disbursed 1</a:t>
            </a:r>
            <a:r>
              <a:rPr b="0" lang="en-US" sz="2800" spc="-1" strike="noStrike" baseline="30000">
                <a:solidFill>
                  <a:srgbClr val="000000"/>
                </a:solidFill>
                <a:latin typeface="Calibri"/>
              </a:rPr>
              <a:t>st</a:t>
            </a:r>
            <a:r>
              <a:rPr b="0" lang="en-US" sz="2800" spc="-1" strike="noStrike">
                <a:solidFill>
                  <a:srgbClr val="000000"/>
                </a:solidFill>
                <a:latin typeface="Calibri"/>
              </a:rPr>
              <a:t> quarter, per the reconcili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5: Cumulative excess funds disbursed thru 2</a:t>
            </a:r>
            <a:r>
              <a:rPr b="0" lang="en-US" sz="2800" spc="-1" strike="noStrike" baseline="30000">
                <a:solidFill>
                  <a:srgbClr val="000000"/>
                </a:solidFill>
                <a:latin typeface="Calibri"/>
              </a:rPr>
              <a:t>nd</a:t>
            </a:r>
            <a:r>
              <a:rPr b="0" lang="en-US" sz="2800" spc="-1" strike="noStrike">
                <a:solidFill>
                  <a:srgbClr val="000000"/>
                </a:solidFill>
                <a:latin typeface="Calibri"/>
              </a:rPr>
              <a:t> quarter, per reconcili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6: Total excess funds already recouped via reduced disbursements in 3</a:t>
            </a:r>
            <a:r>
              <a:rPr b="0" lang="en-US" sz="2800" spc="-1" strike="noStrike" baseline="30000">
                <a:solidFill>
                  <a:srgbClr val="000000"/>
                </a:solidFill>
                <a:latin typeface="Calibri"/>
              </a:rPr>
              <a:t>rd</a:t>
            </a:r>
            <a:r>
              <a:rPr b="0" lang="en-US" sz="2800" spc="-1" strike="noStrike">
                <a:solidFill>
                  <a:srgbClr val="000000"/>
                </a:solidFill>
                <a:latin typeface="Calibri"/>
              </a:rPr>
              <a:t> quar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7: Remaining excess to recou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8: Excess to be recouped in October (this is not a recaptu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02D5-C816-42FE-B907-4079D3BF44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45" name=""/>
          <p:cNvSpPr txBox="1"/>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29 thru 40</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for 4</a:t>
            </a:r>
            <a:r>
              <a:rPr b="0" lang="en-US" sz="2800" spc="-1" strike="noStrike" baseline="30000">
                <a:solidFill>
                  <a:srgbClr val="000000"/>
                </a:solidFill>
                <a:latin typeface="Calibri"/>
              </a:rPr>
              <a:t>th</a:t>
            </a:r>
            <a:r>
              <a:rPr b="0" lang="en-US" sz="2800" spc="-1" strike="noStrike">
                <a:solidFill>
                  <a:srgbClr val="000000"/>
                </a:solidFill>
                <a:latin typeface="Calibri"/>
              </a:rPr>
              <a:t> quarter and how they are calculat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29 and 30: Disbursements for October – total to Line 18</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disbursements split if PHA already received disbursements through September that utilized some or all of their October alloc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 presently obligated by HUD only thru Octobe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October disbursement will be made as soon as balance of allocation is available during the month</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1A93-1894-4AC2-8265-96A23657F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29 thru 4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31 thru 35: November disbursemen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1: BA remaining after October disbursement (same as Line 23)</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2: November need (line 13, regardless of monthly obligation amou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3: Any reduction to recoup excess funds – if all could not be taken in Octobe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4: Remaining November need after recouping excess</a:t>
            </a:r>
            <a:endParaRPr b="0" lang="en-US" sz="24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CB6F-EF25-4D60-B288-BA69DEEE71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5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29 thru 4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31 thru 35: November disbursemen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5: portion of November BA need that is available and will be disbursed – lesser of remaining need on Line 34 or BA available on Line 31</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36 thru 40: December disbursemen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ats process used to determine November disbursemen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disbursement needed and not being made cannot be made up from future year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5033-1CE9-4458-96EB-FC772B007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54"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ary for PHA’s inform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1: Total CY 2012 renewal funding / B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s renewal allocation only, from funding letter</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2: Total CY 2012 non-renewal funding / B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3: Total disbursed or scheduled to be disbursed in CY 2012 for all purpo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4: Reiterates the under-disbursement included in the total, since not yet mad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3CC3-E506-4A7B-B5CA-0CD7DA267F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49"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Control disbursement of federal funds in such a way that PHAs do not receive federal funds before they are nee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sury Issuance: “Advances to a recipient organization will be limited to the minimum amounts necessary for immediate disbursement needs and will be timed to be in accord only with the actual immediate cash requirements of the recipient organization in carrying out the purpose of an approved program or project.  The timing and</a:t>
            </a:r>
            <a:endParaRPr b="0" lang="en-US" sz="28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626B-2B81-4C89-AD65-3345CD9591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5: Total CY 2012 BA not disbursed or scheduled to be disburs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egative, there is less BA available than the PHA is estimated to spend for the C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egative, PHA may need to support some HAP expenses from other sources, including NRA and UNA – therefore, those PHA-reported values for June 30 are noted on final lines</a:t>
            </a:r>
            <a:endParaRPr b="0" lang="en-US" sz="24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6F30-DD62-42CB-A2AA-52BFC8603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5: Total CY 2012 BA not disbursed or scheduled to be disbursed</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n this estimate:</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 reporting may not be up-to-date</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of June 30, there was still 1/3 of offset to take</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rd quarter actual expenses not incorporated, so PHA utilization will impact what is still available</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45 is an estimate of PHA need to augment, not a final number</a:t>
            </a:r>
            <a:endParaRPr b="0" lang="en-US" sz="24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CFBB-F3F4-4CAD-A97F-6CF985ECC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63"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PHA must augment with NRA now, and there is BA available when full year costs are known, the BA will be disbursed and the use of NRA thereby reduc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 needs to examine its own data to determine what they need to do – other resources, stop leasing, etc.</a:t>
            </a:r>
            <a:endParaRPr b="0" lang="en-US" sz="28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625D-59C3-46DA-BD02-259A3A010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66" name=""/>
          <p:cNvSpPr txBox="1"/>
          <p:nvPr/>
        </p:nvSpPr>
        <p:spPr>
          <a:xfrm>
            <a:off x="304920" y="17521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tober is not a good time to lease up, other than replacing attrition, because 2013 funds will likely be based on CY 2012 cos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HAP in October will have 3 months of expenses in CY 2013 funding</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ardless of funds provided in 2012, PHA’s total CY 2012 expenditures will be the basis of 2013 funding, as long as PHA is not over-leased, and eligibility will be subject to pro-ratio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5427-F855-4C4F-BD8E-7B801ABEB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coming Activities</a:t>
            </a:r>
            <a:endParaRPr b="0" lang="en-US" sz="36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en-US" sz="3200" spc="-1" strike="noStrike" baseline="30000">
                <a:solidFill>
                  <a:srgbClr val="000000"/>
                </a:solidFill>
                <a:latin typeface="Calibri"/>
              </a:rPr>
              <a:t>rd</a:t>
            </a:r>
            <a:r>
              <a:rPr b="0" lang="en-US" sz="3200" spc="-1" strike="noStrike">
                <a:solidFill>
                  <a:srgbClr val="000000"/>
                </a:solidFill>
                <a:latin typeface="Calibri"/>
              </a:rPr>
              <a:t> quarter actual HAP expenditures will be reconciled to disbursements once VMS data is validated – reconciliation will be cumul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D plans to combine reconciliation and disbursement reports to P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en-US" sz="2800" spc="-1" strike="noStrike" baseline="30000">
                <a:solidFill>
                  <a:srgbClr val="000000"/>
                </a:solidFill>
                <a:latin typeface="Calibri"/>
              </a:rPr>
              <a:t>rd</a:t>
            </a:r>
            <a:r>
              <a:rPr b="0" lang="en-US" sz="2800" spc="-1" strike="noStrike">
                <a:solidFill>
                  <a:srgbClr val="000000"/>
                </a:solidFill>
                <a:latin typeface="Calibri"/>
              </a:rPr>
              <a:t> quarter reconciliation will also identify disbursements planned for 1</a:t>
            </a:r>
            <a:r>
              <a:rPr b="0" lang="en-US" sz="2800" spc="-1" strike="noStrike" baseline="30000">
                <a:solidFill>
                  <a:srgbClr val="000000"/>
                </a:solidFill>
                <a:latin typeface="Calibri"/>
              </a:rPr>
              <a:t>st</a:t>
            </a:r>
            <a:r>
              <a:rPr b="0" lang="en-US" sz="2800" spc="-1" strike="noStrike">
                <a:solidFill>
                  <a:srgbClr val="000000"/>
                </a:solidFill>
                <a:latin typeface="Calibri"/>
              </a:rPr>
              <a:t> quarter CY 2013</a:t>
            </a:r>
            <a:endParaRPr b="0" lang="en-US" sz="28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A56E-E830-4E09-BBA5-0C811651F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coming Activities</a:t>
            </a:r>
            <a:endParaRPr b="0" lang="en-US" sz="36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priations for 2013 are not expected before 1</a:t>
            </a:r>
            <a:r>
              <a:rPr b="0" lang="en-US" sz="3200" spc="-1" strike="noStrike" baseline="30000">
                <a:solidFill>
                  <a:srgbClr val="000000"/>
                </a:solidFill>
                <a:latin typeface="Calibri"/>
              </a:rPr>
              <a:t>st</a:t>
            </a:r>
            <a:r>
              <a:rPr b="0" lang="en-US" sz="3200" spc="-1" strike="noStrike">
                <a:solidFill>
                  <a:srgbClr val="000000"/>
                </a:solidFill>
                <a:latin typeface="Calibri"/>
              </a:rPr>
              <a:t> quarter disbursements must be determined – will use CY 2012 allocation as prox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 will be advised of a date certain by which all CY 2012 reporting in VMS must be final, for year-end reconcili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VMS or funding changes will be incorporated</a:t>
            </a:r>
            <a:endParaRPr b="0" lang="en-US" sz="28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7512-1ABC-443A-8965-8D358D702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coming Activities</a:t>
            </a:r>
            <a:endParaRPr b="0" lang="en-US" sz="36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CY 2012 is reconcil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utstanding NRA from pre 2012 and all excess HAP from 2012 will be recouped into the HUD-maintained program reserves for each PHA – this is not a recap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 earned on NRA and excess HAP from 2012 will be recouped and returned to the Treasury</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F253-80B1-4D97-BF1B-952398327F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a PHA determine the amount of program reserves HUD is holding for them?</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Reserves generated from CY 2012 activity will not be determined until the year ends and all funding and costs are known, bu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 can add up all funds obligated (ACC) applicable to the CY and subtract all HAP costs for eligible vouchers – the difference is the excess HAP at any point in time; total excess for the year will become the program reserves, plus the 12/31/2011 NRA not used in 2012</a:t>
            </a:r>
            <a:endParaRPr b="0" lang="en-US" sz="24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90FD-242B-459E-9B67-1EDECE3C16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a PHA submit a request for HUD held reserves before NRA is exhaust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a PHA should use NRA funds already at hand before requesting an additional advance from the FM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ill reduce your NRA on hand rather than the excess HAP funds held by HUD, but the total available to the PHA will be the sam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7E38-5F51-4E84-828E-7173971F3A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ward letters for set-aside funds and additional 2011 pro-ration funds said the funds would be disbursed as needed – how does a PHA access those fund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funds are a portion of the total BA available for your PHA for CY 2012 and are disbursed as needed per the cash disbursement calculations or front-loa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ds lose their identify once put under ACC and are available in the same manner and for the same purposes as renewal funds</a:t>
            </a:r>
            <a:endParaRPr b="0" lang="en-US" sz="24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D71D-BFFA-40A5-A9CC-2B4E0F1561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of cash advances will be as close as is administratively feasible to the actual disbursements by the recipient organization for direct program costs and the proportionate share of any allowable indirect cos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is reiterated in the 2012 Appropriations 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procedures detailed in PIH Notice 2011-67</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2089-8FD4-4D91-A1DD-050504F1A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questions after this broadcast should be directed to your FMC financial analyst o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H.Financial.Management.Division@hud.gov</a:t>
            </a:r>
            <a:endParaRPr b="0" lang="en-US" sz="28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F1E8-FB5D-422C-AB3F-0F0693E20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55" name=""/>
          <p:cNvSpPr txBox="1"/>
          <p:nvPr/>
        </p:nvSpPr>
        <p:spPr>
          <a:xfrm>
            <a:off x="457200" y="1447560"/>
            <a:ext cx="82296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 to CY 2005: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ucher funds were distributed to PHAs in accordance with a PHA budget; PHAs were required to revise budgets if disbursements exceeded need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D held all excess as program reserv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ive CY 2005:</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ucher renewal funds were distributed 1/12 of total pro-rated eligibility per month; incremental funds distributed based on contract term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s held all excess as NRA</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FF53-37E3-4514-AEC7-4DDA08420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58" name=""/>
          <p:cNvSpPr txBox="1"/>
          <p:nvPr/>
        </p:nvSpPr>
        <p:spPr>
          <a:xfrm>
            <a:off x="457200" y="1295280"/>
            <a:ext cx="822960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since 2005 have received disbursements in excess of their nee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have accumulated significant levels of NRA -- $1.8 billion at the end of CY 2011</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gress has mandated the offset of approximately $1.5 billion combined in 2008 and 2009 and $650 million in 2012</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E2B8-B355-4A54-A1A3-F1B9977F3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t of Cash Management Proced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PHA accumulation of NRA fun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 Treasury outlays and costs by timing the disbursements based on actual ne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e a more efficient and timely method by which to account for PHA program reserve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1CBA-E061-4C32-B4E9-8990252E9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64" name=""/>
          <p:cNvSpPr txBox="1"/>
          <p:nvPr/>
        </p:nvSpPr>
        <p:spPr>
          <a:xfrm>
            <a:off x="457200" y="129492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n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hly disbursement of anticipated HAP needs and a small margin for increases (adva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 option to request additional advances based on demonstrated need, up to total allo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rterly reconciliation of actual costs to adva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ar-end final reconciliation of actual costs to adva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095B-F232-4CD4-9213-7DEACCEAF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5:24:17Z</dcterms:created>
  <dc:creator>Bernice Prescott</dc:creator>
  <dc:description/>
  <dc:language>en-US</dc:language>
  <cp:lastModifiedBy>H21354</cp:lastModifiedBy>
  <dcterms:modified xsi:type="dcterms:W3CDTF">2012-10-12T21:05:14Z</dcterms:modified>
  <cp:revision>359</cp:revision>
  <dc:subject/>
  <dc:title>Slide 1</dc:title>
</cp:coreProperties>
</file>